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883-55AB-4D4C-B21B-AB443FB9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00CB-9623-4D4A-B981-A0397C05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3831-A128-4D11-AB35-82029A22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F315-91A4-45C5-9753-5A6D443D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8B4-9B61-4EF9-BDDE-6D32D99C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C3C-DA66-4E82-8C1F-553B35FA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9F7-6610-4BD7-89C3-861F449B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B3E-CEA7-43CC-AB3C-C5884793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BED4-5EAC-4B1D-9561-5E8A6D34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6D97-0B0F-4125-92ED-072107BC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B317-E5DF-45F7-A477-7CAA365F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E3E2-597A-41EA-AB79-3C9A48DA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73DB-AC02-4E8B-AE1B-F6D1752AFC0C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285920"/>
            <a:ext cx="7223400" cy="443844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298600" y="347760"/>
            <a:ext cx="408960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357720" y="92880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تولیدی های خیاط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142920" y="5715000"/>
            <a:ext cx="7858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8:06:40Z</dcterms:modified>
  <cp:revision>42</cp:revision>
  <dc:subject/>
  <dc:title>Slide 1</dc:title>
</cp:coreProperties>
</file>